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png" ContentType="image/png"/>
  <Override PartName="/ppt/media/jeop.wav" ContentType="audio/x-wav"/>
  <Override PartName="/ppt/media/image4.jpeg" ContentType="image/jpeg"/>
  <Override PartName="/ppt/media/clap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B0C0-451E-429F-97ED-0A181CD8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5AA-2E21-45E5-9D8D-6E2449174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A28-4754-417A-9160-4593FAD98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372-6A32-4CF2-9B80-7E807A64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5AE-35E8-452A-B234-3A065C5C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05E-37EF-4BDF-8A74-7A59A88D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9FE-E3CC-4D0E-82A9-BE7A3B3E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AE3-CBC1-4EA6-96C2-5E888AE5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5AF-C3E7-4ACD-96CF-0B8F7193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5CA8-B74A-445A-BA2A-68E82D7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C60-10D5-4785-922B-510EF80E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A602-470F-43F6-9428-9F8A857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2B1-E4FB-4B82-8345-E3C9BF6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F921-839B-4C93-A65D-FBFE3AB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3DD-A2D1-4ED9-AC36-C7D66FA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774-B30A-4F21-830B-62116F8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FE2-2B81-4AC3-BB41-24968E2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A7B3-FFCD-4686-891E-ECDADA1D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1D9B-782E-4F34-A11F-EA4ACD00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7897-7811-4863-8C31-74352565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864-B098-4D33-98E7-B765BFB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ED3-D712-4484-8138-2340BECE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F66-F01A-4FC4-AF27-555205E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292-BFB1-42F0-83A2-132504E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583-358F-429E-8113-DEF5969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5E6-5901-4D8B-82BF-6907653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D99-FB76-46FC-9D53-1F21C1E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6D5-62A9-4F7F-AF03-86ED6BF3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4667-FD2E-4987-9FE3-45A76F17B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audio" Target="../media/jeop.wav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295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600200"/>
          <a:ext cx="783432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343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5257800" y="1219320"/>
            <a:ext cx="144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62320" y="16002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os es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i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9880" y="1676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 ciu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98560" y="324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898560" y="40035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98560" y="47656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98560" y="5527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146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556272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0384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102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5146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0384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5627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7155000" y="3276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146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39625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5538960" y="39625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155000" y="403848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46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38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556272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7155000" y="480060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25146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0384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627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7155000" y="5562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29"/>
          <a:stretch/>
        </p:blipFill>
        <p:spPr>
          <a:xfrm>
            <a:off x="-152388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Jeopardy.wav" descr=""/>
          <p:cNvPicPr/>
          <p:nvPr/>
        </p:nvPicPr>
        <p:blipFill>
          <a:blip r:embed="rId30"/>
          <a:stretch/>
        </p:blipFill>
        <p:spPr>
          <a:xfrm>
            <a:off x="-121932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3"/>
          <p:cNvSpPr/>
          <p:nvPr/>
        </p:nvSpPr>
        <p:spPr>
          <a:xfrm>
            <a:off x="914400" y="1676520"/>
            <a:ext cx="14479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rel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02160" y="16398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njug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os ver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0102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 pelícu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501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981080"/>
            <a:ext cx="8458200" cy="210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______ _______ de mi mejor amigo porque él tiene un carro nuev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757600" y="2514600"/>
            <a:ext cx="3200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go ce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8920" y="2133720"/>
            <a:ext cx="771696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ñora Gonzalez es ______ por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 esposo se murió en una guer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7400" y="2590920"/>
            <a:ext cx="510552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u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33520" y="2209680"/>
            <a:ext cx="81532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s padres ________ en una iglesia muy grande cuando tenían 24 añ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59160" y="2438280"/>
            <a:ext cx="26542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 casar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3520" y="2214720"/>
            <a:ext cx="81532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 padres no viven juntos porque  ___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8400" y="2438280"/>
            <a:ext cx="3587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 divorciar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367000"/>
            <a:ext cx="83059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ta y Pablo no están divorciados, pero están ________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2362320"/>
            <a:ext cx="2590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par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95280" y="2971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59160" y="2068560"/>
            <a:ext cx="77414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y mucho _____ en la escue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Ana y su novi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2362320"/>
            <a:ext cx="9144000" cy="210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gunas personas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iensa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qu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jor estar ______, porque no tie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 preocuparte por otra person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584160" y="2514600"/>
            <a:ext cx="17978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te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212840" y="2260440"/>
            <a:ext cx="63244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sé dónde estoy. Estoy _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505320" y="2549520"/>
            <a:ext cx="205740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d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d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31720" y="2438280"/>
            <a:ext cx="58928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vir (en un apartamento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508920" y="2666880"/>
            <a:ext cx="17658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id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066680" y="2286000"/>
            <a:ext cx="739152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o conecta dos lugares, a veces por encima del agu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440520" y="2666880"/>
            <a:ext cx="23403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pu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3360" y="2297160"/>
            <a:ext cx="77785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ñal con luz rojo, amarillo, y ver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00400" y="2666880"/>
            <a:ext cx="29718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emáfo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76720" y="3048120"/>
            <a:ext cx="533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2236680"/>
            <a:ext cx="3809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s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3" name="4DFAB4C9.WAV" descr=""/>
          <p:cNvPicPr/>
          <p:nvPr/>
        </p:nvPicPr>
        <p:blipFill>
          <a:blip r:embed="rId3"/>
          <a:stretch/>
        </p:blipFill>
        <p:spPr>
          <a:xfrm>
            <a:off x="-2057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4DFAB4C9.WAV" descr=""/>
          <p:cNvPicPr/>
          <p:nvPr/>
        </p:nvPicPr>
        <p:blipFill>
          <a:blip r:embed="rId4"/>
          <a:stretch/>
        </p:blipFill>
        <p:spPr>
          <a:xfrm>
            <a:off x="-190512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282840" y="2133720"/>
            <a:ext cx="22860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in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754000" y="2666880"/>
            <a:ext cx="366444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 un pas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na vuel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228600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erite – Juan/ te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276720" y="2514600"/>
            <a:ext cx="25146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676520" y="2286000"/>
            <a:ext cx="58672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erfect- yo/ 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191120" y="2590920"/>
            <a:ext cx="10666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b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62120" y="2514600"/>
            <a:ext cx="76960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erite- nosotros/ po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363840" y="2743200"/>
            <a:ext cx="22334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dim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- las casas/ s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030200" y="2514600"/>
            <a:ext cx="126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94880" y="2286000"/>
            <a:ext cx="761760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er Julio _______ con Marta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ce que ella era muy antipatic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164680" y="2514600"/>
            <a:ext cx="48351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- yo/ obedec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439440" y="2362320"/>
            <a:ext cx="2356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edez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48720" y="2514600"/>
            <a:ext cx="81147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milia de Macario es 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09480" y="312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048120" y="2438280"/>
            <a:ext cx="32763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b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5" name="9316E628.WAV" descr=""/>
          <p:cNvPicPr/>
          <p:nvPr/>
        </p:nvPicPr>
        <p:blipFill>
          <a:blip r:embed="rId3"/>
          <a:stretch/>
        </p:blipFill>
        <p:spPr>
          <a:xfrm>
            <a:off x="-175248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9316E628.WAV" descr=""/>
          <p:cNvPicPr/>
          <p:nvPr/>
        </p:nvPicPr>
        <p:blipFill>
          <a:blip r:embed="rId4"/>
          <a:stretch/>
        </p:blipFill>
        <p:spPr>
          <a:xfrm>
            <a:off x="-243828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3048120" y="3124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85800" y="2171880"/>
            <a:ext cx="7467480" cy="1922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iño malo e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 y su ánge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llama _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946320" y="2819520"/>
            <a:ext cx="126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57200" y="2590920"/>
            <a:ext cx="83818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s tres hombres en el bosque son _________, ________, y 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200400" y="2743200"/>
            <a:ext cx="312408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Diablo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s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ue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2057400"/>
            <a:ext cx="83822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uánto cobra Macario por sus servici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080800" y="2805120"/>
            <a:ext cx="52664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 que pueden pa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510360" y="2590920"/>
            <a:ext cx="176112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pi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1981080"/>
            <a:ext cx="83818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 final d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ulio y su ánge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Julio tiene _____ años y es 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76720" y="2590920"/>
            <a:ext cx="1981080" cy="1312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d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533520" y="2286000"/>
            <a:ext cx="7848360" cy="2775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a características de una persona que perdió s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. (Usa sólo las palabras de la hoja de vocabulario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80880" y="2209680"/>
            <a:ext cx="4191120" cy="3445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oj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rim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egu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ocup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8" name="Jeopardy.wav" descr=""/>
          <p:cNvPicPr/>
          <p:nvPr/>
        </p:nvPicPr>
        <p:blipFill>
          <a:blip r:embed="rId2"/>
          <a:stretch/>
        </p:blipFill>
        <p:spPr>
          <a:xfrm>
            <a:off x="-1371600" y="2590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4724280" y="2895480"/>
            <a:ext cx="419112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obi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gust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mpestuo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opardy template designed by Patricia Kelly, Fitchburg High School, Fitchburg,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questions designed by Jessica Kaplan, Norwood High School, Norwood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651120" y="2487600"/>
            <a:ext cx="15242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35240" y="2666880"/>
            <a:ext cx="2543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quete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2090880"/>
            <a:ext cx="813744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ario no le gusta _______ s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uetes con sus herman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217680" y="2438280"/>
            <a:ext cx="238140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ti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ssica Kaplan</cp:lastModifiedBy>
  <dcterms:modified xsi:type="dcterms:W3CDTF">2013-01-18T14:53:38Z</dcterms:modified>
  <cp:revision>145</cp:revision>
  <dc:subject/>
  <dc:title>Jeopardy</dc:title>
</cp:coreProperties>
</file>